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C9DA-5BD8-49A8-B1F0-45931DBFE2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Govern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Govern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es of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isl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dic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nches of 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s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d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ional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ional 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islativ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the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se of Represent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slative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la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use of Represent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cutiv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s the laws into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 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i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s the laws into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e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bi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dicial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s the meaning of the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reme Cou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hief Jus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Associate Ju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dicial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es the meaning of the la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reme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hief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Associate Jus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458-A52F-43D6-8B37-37BE0675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FC11-FB4D-4E85-8104-7FB0BC89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45F-45B9-46F4-904C-FE4C814F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7590-5124-453D-862C-0235B096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0E4-1F2A-44E5-A432-0CCEFD58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EC8D-D315-4C90-829C-CA6C137D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940E-6609-4AD9-8295-3028EA57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BD03-FF55-46AE-9A15-547C5D34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B944-1492-49FB-8CB2-8E6FA9B7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6BE-4467-457B-A917-A04D2CC7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735-7999-4914-B435-E885C8EF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156-96AE-4872-AECD-2E3E5727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C5C6-7DD7-4500-A8AE-70096DFB6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:\flag.bmp"/>
          <p:cNvPicPr/>
          <p:nvPr/>
        </p:nvPicPr>
        <p:blipFill>
          <a:blip r:embed="rId1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71600" y="1828800"/>
            <a:ext cx="655308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What is Gover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Branches of 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BD06916_"/>
          <p:cNvPicPr/>
          <p:nvPr/>
        </p:nvPicPr>
        <p:blipFill>
          <a:blip r:embed="rId1"/>
          <a:stretch/>
        </p:blipFill>
        <p:spPr>
          <a:xfrm>
            <a:off x="2743200" y="2309760"/>
            <a:ext cx="3809880" cy="3610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838080" y="2057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Legisl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57200" y="4419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Execu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095880" y="3581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Judi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A:\flag nation.bmp"/>
          <p:cNvPicPr/>
          <p:nvPr/>
        </p:nvPicPr>
        <p:blipFill>
          <a:blip r:embed="rId1"/>
          <a:stretch/>
        </p:blipFill>
        <p:spPr>
          <a:xfrm>
            <a:off x="1905120" y="2438280"/>
            <a:ext cx="5181480" cy="345276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1066680" y="1143000"/>
            <a:ext cx="6943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ubway"/>
              </a:rPr>
              <a:t>The National Government</a:t>
            </a:r>
            <a:endParaRPr b="0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ubway"/>
              <a:ea typeface="Subway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Legislative Bra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Make the la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Con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he House of Represent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he Sen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A:\congress.bmp"/>
          <p:cNvPicPr/>
          <p:nvPr/>
        </p:nvPicPr>
        <p:blipFill>
          <a:blip r:embed="rId1"/>
          <a:stretch/>
        </p:blipFill>
        <p:spPr>
          <a:xfrm>
            <a:off x="4876920" y="2286000"/>
            <a:ext cx="3809880" cy="28954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Executive Bra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Puts the laws into 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Presi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Vice Presi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Cabi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A:\president.bmp"/>
          <p:cNvPicPr/>
          <p:nvPr/>
        </p:nvPicPr>
        <p:blipFill>
          <a:blip r:embed="rId1"/>
          <a:stretch/>
        </p:blipFill>
        <p:spPr>
          <a:xfrm>
            <a:off x="5105520" y="3048120"/>
            <a:ext cx="2495520" cy="3151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ubway"/>
              </a:rPr>
              <a:t>Judicial Bra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Decides the meaning of the la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Supreme Cou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1 Chief Jus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8 Associate Just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A:\SC.bmp"/>
          <p:cNvPicPr/>
          <p:nvPr/>
        </p:nvPicPr>
        <p:blipFill>
          <a:blip r:embed="rId1"/>
          <a:stretch/>
        </p:blipFill>
        <p:spPr>
          <a:xfrm>
            <a:off x="4572000" y="2057400"/>
            <a:ext cx="4343400" cy="35193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00:36:25Z</dcterms:created>
  <dc:creator>Philip Williams</dc:creator>
  <dc:description/>
  <dc:language>en-US</dc:language>
  <cp:lastModifiedBy>Legion</cp:lastModifiedBy>
  <dcterms:modified xsi:type="dcterms:W3CDTF">2017-07-06T06:52:57Z</dcterms:modified>
  <cp:revision>7</cp:revision>
  <dc:subject/>
  <dc:title>What is Government?</dc:title>
</cp:coreProperties>
</file>